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C2E-DC54-441A-AC60-7BAAAF5CD4F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j8TGhcCnxs&amp;feature=related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Silly video to introduce the topic… </a:t>
            </a:r>
            <a:r>
              <a:rPr b="0" lang="en-US" sz="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wj8TGhcCnxs&amp;feature=related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Photosynthesis rap: (mentions light reactions &amp; Calvin Cycle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pE82qtKSSH4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32F6-3318-4B8F-9E82-AB4D6EC41DE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kvhs.nbed.nb.ca/gallant/biology/photosynth_summary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hisglory.com/photos2/Green%20Leave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sciencephoto.com/images/download_lo_res.html?id=670035023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Stomata are important structures in leaves for gas exchang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www.howplantswork.com/2009/02/12/photosynthesis-and-global-weirding-how-heat-and-drought-affect-photosynthesis-part-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micro.magnet.fsu.edu/cells/chloroplasts/chloroplast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n photosynthetic eukaryotes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agron.iastate.edu/courses/Agron317/Pigment_Inhibitors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yorku.ca/eye/spectru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9A8-1E75-41BA-AB01-987144EC864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www.giss.nasa.gov/research/features/201311_ki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0FD-0D27-4455-90C7-1EA825FA382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4D6-DEE6-4A51-904F-129B1E5D84F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://lrrpublic.cli.det.nsw.edu.au/lrrSecure/Sites/LRRView/7397/applets/Living_Things_Database/livingthings/images/willow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0D16-3370-42DF-A07D-D68196C2248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945-1110-4FB8-833A-255705CA189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DDF2-EB89-41AE-9D2B-205BC2F1729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Absorption spectrum indicates wavelengths of light absorbed by a pigment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uic.edu/classes/bios/bios100/lecturesf04am/lect10.htm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otobiology.info/Gort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elmann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experiments (1882);  stran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pirogyra (green alga), water, aerobic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B84C-936B-452C-B23A-5CA4A67A33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850E-49EB-4D6E-8C62-1D6D40B7802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bilingualbiology11a.blogspot.com/2011/01/photosynthesis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27B-06BD-459D-93D8-ABD292AF79C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photochembgsu.com/students/maria.html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es.midlandstech.edu/carterp/courses/bio101/labquiz3/ss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libri"/>
              </a:rPr>
              <a:t>Image from: http://www.lablearner.com/blog/2010/04/2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9F44-838A-4080-838E-6AE161B16E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FCA5-0658-4B5F-9D32-CEDEB92EB0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BD6-FDEE-49B7-AB6E-728756A2475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0241-2564-4B52-B660-0E3C9E98612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75C-CC04-4108-A033-DA1C23CB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F75-B8C5-4902-A839-F66E0E02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2D9-8477-4D26-8F06-47F96A6C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77E-F9AC-44F9-8ADB-45F79C7D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7E9-0709-4775-8BB5-6FC9988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98B-5613-4364-A8A5-2378A7B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B95-667C-44F5-A058-24EC756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2F9-5A95-44AA-9A0C-2109F6C7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C63-9875-46A0-BBEF-7C0CD69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718-E873-4354-8F4A-606D373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9543-4332-4879-80AA-F3E9020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513-54FA-4F3C-A43E-3B35D0E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6E4-A841-44BD-9AC0-9B4D0CFBE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1_uez5WX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-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1_uez5WX1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hotosynth_summary"/>
          <p:cNvPicPr/>
          <p:nvPr/>
        </p:nvPicPr>
        <p:blipFill>
          <a:blip r:embed="rId1"/>
          <a:stretch/>
        </p:blipFill>
        <p:spPr>
          <a:xfrm>
            <a:off x="1957320" y="1600200"/>
            <a:ext cx="5227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are photosynthetic organ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dapted fo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reen Leaves"/>
          <p:cNvPicPr/>
          <p:nvPr/>
        </p:nvPicPr>
        <p:blipFill>
          <a:blip r:embed="rId1"/>
          <a:stretch/>
        </p:blipFill>
        <p:spPr>
          <a:xfrm>
            <a:off x="4648320" y="1949400"/>
            <a:ext cx="403848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section of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0035023-Tea_leaf,_light_micrograph-SPL"/>
          <p:cNvPicPr/>
          <p:nvPr/>
        </p:nvPicPr>
        <p:blipFill>
          <a:blip r:embed="rId1"/>
          <a:stretch/>
        </p:blipFill>
        <p:spPr>
          <a:xfrm>
            <a:off x="2411280" y="1600200"/>
            <a:ext cx="43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toma1"/>
          <p:cNvPicPr/>
          <p:nvPr/>
        </p:nvPicPr>
        <p:blipFill>
          <a:blip r:embed="rId1"/>
          <a:stretch/>
        </p:blipFill>
        <p:spPr>
          <a:xfrm>
            <a:off x="3139920" y="1600200"/>
            <a:ext cx="286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hloroplastsfigure1"/>
          <p:cNvPicPr/>
          <p:nvPr/>
        </p:nvPicPr>
        <p:blipFill>
          <a:blip r:embed="rId1"/>
          <a:stretch/>
        </p:blipFill>
        <p:spPr>
          <a:xfrm>
            <a:off x="2144880" y="1600200"/>
            <a:ext cx="48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hotosynthetic organisms cont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imary photosynthetic pi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hlorophyll_a"/>
          <p:cNvPicPr/>
          <p:nvPr/>
        </p:nvPicPr>
        <p:blipFill>
          <a:blip r:embed="rId1"/>
          <a:stretch/>
        </p:blipFill>
        <p:spPr>
          <a:xfrm>
            <a:off x="5005440" y="1600200"/>
            <a:ext cx="332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electromagnetic-spectrum"/>
          <p:cNvPicPr/>
          <p:nvPr/>
        </p:nvPicPr>
        <p:blipFill>
          <a:blip r:embed="rId1"/>
          <a:stretch/>
        </p:blipFill>
        <p:spPr>
          <a:xfrm>
            <a:off x="457200" y="1897200"/>
            <a:ext cx="82296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is the primary photosynthetic pi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gives plants a 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hyll a 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fig3_324.jpg"/>
          <p:cNvPicPr/>
          <p:nvPr/>
        </p:nvPicPr>
        <p:blipFill>
          <a:blip r:embed="rId1"/>
          <a:srcRect l="-6112" t="0" r="-611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ssory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sorb different wavelengths of light than 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hocyanins (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CA" sz="3200" spc="-1" strike="noStrike">
                <a:solidFill>
                  <a:srgbClr val="800080"/>
                </a:solidFill>
                <a:latin typeface="Arial"/>
              </a:rPr>
              <a:t>viol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rotenoids (</a:t>
            </a:r>
            <a:r>
              <a:rPr b="0" lang="en-CA" sz="3200" spc="-1" strike="noStrike">
                <a:solidFill>
                  <a:srgbClr val="ff8000"/>
                </a:solidFill>
                <a:latin typeface="Arial"/>
              </a:rPr>
              <a:t>oran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CA" sz="32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000000"/>
                </a:solidFill>
                <a:latin typeface="Arial"/>
              </a:rPr>
              <a:t>Jan Baptist van Helmont (1579-1644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first scientists to study what makes plant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inferred from these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willow.gif"/>
          <p:cNvPicPr/>
          <p:nvPr/>
        </p:nvPicPr>
        <p:blipFill>
          <a:blip r:embed="rId1"/>
          <a:stretch/>
        </p:blipFill>
        <p:spPr>
          <a:xfrm>
            <a:off x="971640" y="3619440"/>
            <a:ext cx="6696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thocya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Anthocyanin Formula"/>
          <p:cNvPicPr/>
          <p:nvPr/>
        </p:nvPicPr>
        <p:blipFill>
          <a:blip r:embed="rId1"/>
          <a:stretch/>
        </p:blipFill>
        <p:spPr>
          <a:xfrm>
            <a:off x="1000080" y="1285920"/>
            <a:ext cx="3000600" cy="24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Flower"/>
          <p:cNvPicPr/>
          <p:nvPr/>
        </p:nvPicPr>
        <p:blipFill>
          <a:blip r:embed="rId2"/>
          <a:stretch/>
        </p:blipFill>
        <p:spPr>
          <a:xfrm>
            <a:off x="5357880" y="1571760"/>
            <a:ext cx="2381040" cy="178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Anthocyanin Absorbance"/>
          <p:cNvPicPr/>
          <p:nvPr/>
        </p:nvPicPr>
        <p:blipFill>
          <a:blip r:embed="rId3"/>
          <a:stretch/>
        </p:blipFill>
        <p:spPr>
          <a:xfrm>
            <a:off x="4857840" y="3643200"/>
            <a:ext cx="3429000" cy="27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food-info.net/images/blueberries.jpg"/>
          <p:cNvPicPr/>
          <p:nvPr/>
        </p:nvPicPr>
        <p:blipFill>
          <a:blip r:embed="rId4"/>
          <a:stretch/>
        </p:blipFill>
        <p:spPr>
          <a:xfrm>
            <a:off x="928800" y="385776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arotenoid Pi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155520" y="-1309680"/>
            <a:ext cx="55911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http://fig.cox.miami.edu/~cmallery/255/255phts/sf7x5a.jpg"/>
          <p:cNvPicPr/>
          <p:nvPr/>
        </p:nvPicPr>
        <p:blipFill>
          <a:blip r:embed="rId1"/>
          <a:stretch/>
        </p:blipFill>
        <p:spPr>
          <a:xfrm>
            <a:off x="1500120" y="1071720"/>
            <a:ext cx="559116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unflower"/>
          <p:cNvPicPr/>
          <p:nvPr/>
        </p:nvPicPr>
        <p:blipFill>
          <a:blip r:embed="rId2"/>
          <a:stretch/>
        </p:blipFill>
        <p:spPr>
          <a:xfrm>
            <a:off x="1000080" y="3643200"/>
            <a:ext cx="3167280" cy="236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-Carotene absorbance"/>
          <p:cNvPicPr/>
          <p:nvPr/>
        </p:nvPicPr>
        <p:blipFill>
          <a:blip r:embed="rId3"/>
          <a:stretch/>
        </p:blipFill>
        <p:spPr>
          <a:xfrm>
            <a:off x="4500720" y="3500280"/>
            <a:ext cx="4071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isible in the autumn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www.ncjournalforwomen.com/images/2005monthlyimages/nov05images/fall_leaves.jpg"/>
          <p:cNvPicPr/>
          <p:nvPr/>
        </p:nvPicPr>
        <p:blipFill>
          <a:blip r:embed="rId1"/>
          <a:stretch/>
        </p:blipFill>
        <p:spPr>
          <a:xfrm>
            <a:off x="1928880" y="1714680"/>
            <a:ext cx="542916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bsorption-spectrum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o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ig1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ex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f a photon of l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 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otosynthetic membranes, the excited electrons are transfer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ary electron ac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hloroplasts, occur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nna 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molecules &amp; accessory pigments in a protei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ction cent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lorophy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rimary electr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hotosystem"/>
          <p:cNvPicPr/>
          <p:nvPr/>
        </p:nvPicPr>
        <p:blipFill>
          <a:blip r:embed="rId1"/>
          <a:stretch/>
        </p:blipFill>
        <p:spPr>
          <a:xfrm>
            <a:off x="4648320" y="2108160"/>
            <a:ext cx="40384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fig.cox.miami.edu/~cmallery/150/phts/c7.10.12PS.jpg"/>
          <p:cNvPicPr/>
          <p:nvPr/>
        </p:nvPicPr>
        <p:blipFill>
          <a:blip r:embed="rId1"/>
          <a:stretch/>
        </p:blipFill>
        <p:spPr>
          <a:xfrm>
            <a:off x="4419720" y="1752480"/>
            <a:ext cx="3267000" cy="404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fig.cox.miami.edu/~cmallery/150/phts/PS.jpg"/>
          <p:cNvPicPr/>
          <p:nvPr/>
        </p:nvPicPr>
        <p:blipFill>
          <a:blip r:embed="rId2"/>
          <a:stretch/>
        </p:blipFill>
        <p:spPr>
          <a:xfrm>
            <a:off x="685800" y="2438280"/>
            <a:ext cx="389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 has chlorophyll P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ystem II has chlorophyll P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raph2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photosynthesis_equation"/>
          <p:cNvPicPr/>
          <p:nvPr/>
        </p:nvPicPr>
        <p:blipFill>
          <a:blip r:embed="rId1"/>
          <a:stretch/>
        </p:blipFill>
        <p:spPr>
          <a:xfrm>
            <a:off x="457200" y="180504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autotro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ergy from the Sun to synthesize complex organic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photoautotrop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cellular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1456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Stages of 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 is captured and used to synthesize ATP and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ht-independent reactions (Calvin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 ATP and NADPH is used to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simple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2:53:26Z</dcterms:created>
  <dc:creator>james</dc:creator>
  <dc:description/>
  <dc:language>en-US</dc:language>
  <cp:lastModifiedBy>rubina khan</cp:lastModifiedBy>
  <dcterms:modified xsi:type="dcterms:W3CDTF">2017-06-08T02:02:13Z</dcterms:modified>
  <cp:revision>109</cp:revision>
  <dc:subject/>
  <dc:title>Slide 1</dc:title>
</cp:coreProperties>
</file>